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C0B-9014-467C-87BD-18A07F26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77E-00B4-4F85-9856-0DEB4FD0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066-7A34-40A3-891C-5B590B82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584-25B1-4081-A325-E4099415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4B79-2CEE-40E4-828B-D4CED694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AB11-73E3-4549-8EE5-C062C4A6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6E06-CF68-43E0-A95B-243AF68C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0A88-EA9D-400D-8B1F-CEC526E5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0995-5324-44DC-A17E-866937A9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7DE1-449A-43F2-91A5-D03E4F8C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852C-95C5-4802-AE72-5F08E6B7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DE3-8DD4-4DC1-95EB-463A3C38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1A84-188C-4D2E-9B6C-5C0EBEC5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A5DC-7823-41AF-9C5B-44E287B1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070B-7A49-416A-BCC1-99087A51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C7AC-E10A-4232-8C11-6AF05D8A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F186-99AD-420E-B340-D1191F4A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E0F5-771C-4928-BED2-AD17A5EC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D6A-2608-4593-BE86-72347703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CDE1-8A3D-44B6-8602-5BB566CF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0EDE-620C-4BED-B351-4E841CFB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616-05FC-4108-950F-C31CA144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B18-E1B6-4AFA-AC55-7073349A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CE9A-AF4C-47DB-B906-DD29D09F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upo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orma libre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orma libre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orma libre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orma libre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orma libre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orma libre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orma libre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orma libre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D3D2-8A99-4735-99C8-AEAD0C653CB2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upo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orma libre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orma libre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orma libre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orma libre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>
                    <a:alpha val="0"/>
                  </a:srgbClr>
                </a:gs>
                <a:gs pos="100000">
                  <a:srgbClr val="994e0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orma libre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orma libre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37222"/>
                </a:gs>
                <a:gs pos="100000">
                  <a:srgbClr val="bb5f03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3F6A-D3E3-4204-9FB3-7BC30CA2FD76}" type="slidenum"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ff"/>
                </a:solidFill>
                <a:latin typeface="Arial"/>
              </a:rPr>
              <a:t>EVANGELISTAS LAIC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Espíritu Fervoros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nhela hacer grandes cosas para su D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mor profundo por Dios y el próji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oce lo valioso del mensaje bíbl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in miedo a llamar al pecador para que entregue su vida a Jesucris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 Black"/>
              </a:rPr>
              <a:t>CARACTERÍSTICA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Hablar y enseñar diligente lo concerniente al Señ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mprende que su misión abarca la predicación y la enseñanz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resenta toda la verdad bíblica adaptándola a su auditórium y al mo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n público y en forma pers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 Black"/>
              </a:rPr>
              <a:t>CARACTERÍSTICA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Con denuedo y vehemencia presenta la verdad en Jesucris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Brío, entusiasmo, ahínco, etc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Reconoce la brevedad del tiempo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 Black"/>
              </a:rPr>
              <a:t>CARACTERÍSTICA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 Black"/>
              </a:rPr>
              <a:t>INSTRUCCIÓN INDISPENSABLE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omilétic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ermenéutic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Evangelismo públic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Doctrinas bíblic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istoria Denominacion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 Black"/>
              </a:rPr>
              <a:t>REQUISITOS BÁSICO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er miembro de un Grupo Pequeñ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rabajar en equipo con otros ministerios espirituales complement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posición a ser capaci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er el evangelista en la Campaña de la Célu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poyar en la educación de otros evangelistas la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eec94"/>
                </a:solidFill>
                <a:latin typeface="Arial Black"/>
              </a:rPr>
              <a:t>EVANGELISTA LAICO</a:t>
            </a:r>
            <a:endParaRPr b="1" lang="en-US" sz="5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PECIALISTA EN EVANGELISMO PÚB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ángulo 4"/>
          <p:cNvSpPr/>
          <p:nvPr/>
        </p:nvSpPr>
        <p:spPr>
          <a:xfrm>
            <a:off x="2708280" y="51325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700" spc="-1" strike="noStrike">
                <a:solidFill>
                  <a:srgbClr val="ffff00"/>
                </a:solidFill>
                <a:latin typeface="BankGothic Md BT"/>
              </a:rPr>
              <a:t>¡HOY!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ángulo 5"/>
          <p:cNvSpPr/>
          <p:nvPr/>
        </p:nvSpPr>
        <p:spPr>
          <a:xfrm>
            <a:off x="34920" y="1890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ff"/>
                </a:solidFill>
                <a:latin typeface="BankGothic Md BT"/>
              </a:rPr>
              <a:t>JESÚS CUENTA CONTIGO 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 Black"/>
              </a:rPr>
              <a:t>INTRODUCCIÓN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e es un seminario introducto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ene como objetivo presentar en forma general lo que es este ministe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Certificación se dará a quien reciba este semina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 Black"/>
              </a:rPr>
              <a:t>OBJETIVOS GENERALE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ner un cuerpo de Evangelistas Laicos consagrados a Jesucristo y a la misión de la Iglesia Adventista del 7mo. D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tar con evangelistas preparados para las diferentes campañ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tar con evangelistas laicos que sean conductores de los evangelistas que se añadirán a la igles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ángulo 4"/>
          <p:cNvSpPr/>
          <p:nvPr/>
        </p:nvSpPr>
        <p:spPr>
          <a:xfrm>
            <a:off x="685800" y="260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ffffff"/>
                </a:solidFill>
                <a:latin typeface="BankGothic Md BT"/>
              </a:rPr>
              <a:t>EVANGELIST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ángulo 5"/>
          <p:cNvSpPr/>
          <p:nvPr/>
        </p:nvSpPr>
        <p:spPr>
          <a:xfrm>
            <a:off x="2846520" y="1700280"/>
            <a:ext cx="5902200" cy="468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70c0"/>
                </a:solidFill>
                <a:latin typeface="Subway"/>
              </a:rPr>
              <a:t>Expertos en el Evangelismo públic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70c0"/>
                </a:solidFill>
                <a:latin typeface="Subway"/>
              </a:rPr>
              <a:t>Ejemplo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70c0"/>
                </a:solidFill>
                <a:latin typeface="Subway"/>
              </a:rPr>
              <a:t>Felip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70c0"/>
                </a:solidFill>
                <a:latin typeface="Subway"/>
              </a:rPr>
              <a:t>Juan el Teólog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70c0"/>
                </a:solidFill>
                <a:latin typeface="Subway"/>
              </a:rPr>
              <a:t>Timoteo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Imagen 6" descr="PE03254_"/>
          <p:cNvPicPr/>
          <p:nvPr/>
        </p:nvPicPr>
        <p:blipFill>
          <a:blip r:embed="rId1"/>
          <a:stretch/>
        </p:blipFill>
        <p:spPr>
          <a:xfrm>
            <a:off x="468360" y="2322360"/>
            <a:ext cx="2351160" cy="211788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7" descr="logotipo iglesia ADVENTISTA"/>
          <p:cNvPicPr/>
          <p:nvPr/>
        </p:nvPicPr>
        <p:blipFill>
          <a:blip r:embed="rId2"/>
          <a:stretch/>
        </p:blipFill>
        <p:spPr>
          <a:xfrm>
            <a:off x="0" y="6154560"/>
            <a:ext cx="7570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 Black"/>
              </a:rPr>
              <a:t>BASE BÍBLICA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ffffff"/>
                </a:solidFill>
                <a:latin typeface="Arial"/>
              </a:rPr>
              <a:t>“… </a:t>
            </a:r>
            <a:r>
              <a:rPr b="0" i="1" lang="es-ES_tradnl" sz="4000" spc="-1" strike="noStrike">
                <a:solidFill>
                  <a:srgbClr val="ffffff"/>
                </a:solidFill>
                <a:latin typeface="Arial"/>
              </a:rPr>
              <a:t>varón elocuente, poderoso en las Escrituras … había sido instruido en el camino del Señor; y siendo de espíritu fervoroso, hablaba y enseñaba diligentemente lo concerniente al Señor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 Black"/>
              </a:rPr>
              <a:t>BASE BÍBLICA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ffff"/>
                </a:solidFill>
                <a:latin typeface="Arial"/>
              </a:rPr>
              <a:t>“… </a:t>
            </a:r>
            <a:r>
              <a:rPr b="0" i="1" lang="es-ES_tradnl" sz="4400" spc="-1" strike="noStrike">
                <a:solidFill>
                  <a:srgbClr val="ffffff"/>
                </a:solidFill>
                <a:latin typeface="Arial"/>
              </a:rPr>
              <a:t>y comenzó a hablar con denuedo … porque con gran vehemencia refutaba a los judíos, demostrando por las Escrituras que Jesús era el Cristo.” Hechos 18: 24 - 2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 Black"/>
              </a:rPr>
              <a:t>CARACTERÍSTICA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locuenci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Lleno del poder del Espírit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tusiasmado con el cumplimiento de la mi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ficacia para persuadir y conmover que tiene las palabras, los gestos o ademanes y cualquier otra cosa capaz de dar a entender con viveza alguna cosa.” Diccionario Oce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Conocer principios de homilé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ocedor de las verdades bíblica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Dominio básico de la hermenéutic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Dedica tiempo para estudiar la Palabra y el Espíritu de la Profecí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Invierte en literatura convenien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 Black"/>
              </a:rPr>
              <a:t>CARACTERÍSTICA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Instruido en el camino del Seño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Ganas de aprend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Sigue las orientaciones de sus condiscípulo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901"/>
              </a:spcBef>
              <a:buClr>
                <a:srgbClr val="b76a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oce la historia denominacional, valorando la conducción divina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eec94"/>
                </a:solidFill>
                <a:latin typeface="Arial Black"/>
              </a:rPr>
              <a:t>CARACTERÍSTICAS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ey Devis</cp:lastModifiedBy>
  <dcterms:modified xsi:type="dcterms:W3CDTF">2010-06-07T14:30:3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